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83BF-5359-4452-8FD6-6F62D11C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08B3-376D-4E74-B450-43C1AB60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0E3D-F561-419E-BCFF-2120B4E5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8C36-147E-4877-BA3B-DF2D5A9A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E83D-1D2E-449B-9CC2-3CF20BAD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BCD6-8DF1-4D8D-A8DB-17B62D3F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9D00-72D7-4EA9-A37A-EC896884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BEC1-EE82-4248-B817-29F2A4A7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DBCF-9A1C-4CC2-904B-10FBEF1B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E1BE-FD7A-4B41-B721-C631ED99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AC61-EB18-483D-916B-B2479529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78F2-D762-4F0E-B6BC-D8D78A28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8694-FE80-4DE7-9382-CF3F85DB0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preadsheets.google.com/ccc?key=pINNryLt_vyDiPyHj11WiDg&amp;hl=en_US&amp;pli=1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: Brainstorming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32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discussions with W3C folks such as Ralph Swick, Karen Myers, Steve Bratt, Eric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3C is interested in working with external standards bodies such as HL7 and CDISC and express their content using Semantic Web specification such as RDF and OWL – Steve Bratt at the Bio IT World Lunch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ation about W3C being a content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n Kisler emphasized that since W3C is providing only the languages, a collaboration would be synergistic and would make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possible to develop a collaborative interest group with involvement of HL7, CDISC and others – conversation with Ralph Sw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proposed Solution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3886200"/>
            <a:ext cx="1219320" cy="14479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34120" y="544680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8640" y="1828800"/>
            <a:ext cx="14731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17800" y="2438280"/>
            <a:ext cx="1054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22640" y="3313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50920" y="3352680"/>
            <a:ext cx="11300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g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21337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79400" y="2438280"/>
            <a:ext cx="2248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F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2666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781680" y="3048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286000" y="2895480"/>
            <a:ext cx="152388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676520"/>
            <a:ext cx="167652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6320" y="46083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ate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Models and Vocabularies used in Clinical Trials Context are different from those used in the Healthcare Delivery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asis on the mapping as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Plug and Play of different Information Models and Vocabul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Cho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ping Mod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component of the key goal of this eff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 To gain acceptance from a wide variety of stakeholders in the healthcare and clinical trials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L7/RIM/DCM – seek alignment with healthcare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ISC/SDTM – seek alignment with clinical trials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Mappings across these two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limitations and gaps across thes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ly on those data items that are required for patient recru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ly on those data items that are related to diabetes and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driven in some part by “mock” diabetes and hypertension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 Step Throu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nical Trial Administrator uses the Protocol Specification Interface to specify the eligibility criteria. The data items are specified using elements from the SDTM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pping module translates the data items to the appropriate HL7/RIM/DCM repres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priate queries are made to the Mediator/Gateway mod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diator/Gateway module translates the query into the underlying database query language. The query is executed at the database and sent to the mapping mod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pping module retranslates the data into terms from the SDTM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ligibility Checking Module checks which patients satisfy the eligibility crite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lected patients are returned to the Clinical Trial Administ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Some eligibility criteria may not be expressible using SPARQL queries and may required rul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 Steps: Narrow Scope for 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 protocol for implementation #8 (second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Scope to Medications, Lab Tests and Vital 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Clinical Trials Ontology and Clinical Practice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iv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gnment with standards as closely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 RDF data store based on data requirements and mock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 Mapping module using N3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 Eligibility checking module using SPAR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demonstrate another use case for Adverse Drug Event Det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cification of Eligibility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we will use an ontology or rule-based tool to specify eligibility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to NLP/Ontology-based approaches that translate free text clinical protocol specifications that transform these into a structure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ype 1 diabe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istory of ketoacid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istory of long-term therapy with insulin (&gt;30 days) within the last y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gibility Criteria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al requirements for this need to be identified and spec’ed out. For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nds on clinical data and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of Scope for PO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want to see if the CT or HC communities have done some work on standards for specifying eligibility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of Scope for P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 Choice: Eligibility Criteria as a “layer” around Data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Type 2 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of Problem: Ketoacid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of 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 Insu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: X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Period: [Date1, Date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gibility Crite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 has Type 2 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 has History of Ketoacid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 has History of Therap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 = Insu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&gt; 30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Period &lt; 1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pings: Goal/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ze the various data items required for patient recruitment (modulo scope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st of requirements on the data content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preadsheets.google.com/ccc?key=pINNryLt_vyDiPyHj11WiDg&amp;hl=en_US&amp;pli=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data item do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RIM/DCM construct(s) that models that data item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CM column under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SDTM construct(s) that models that data item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DTM column under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terminologies that model some of the values require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rminology Columns including Snomed, MedDRA and NCI Thesau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data types and values that characterize the values of some of the data item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a Types and Units columns including those for RIM and SD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ill be considering various constructs of HL7/RIM, Detailed Clinical Models and other models in conj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back fro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yotishman Path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 Russ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 Mo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an Rutten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a Mirha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e Feigenba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nan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hel Rich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ie Step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ic Prud’homm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der a Data Item Examp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: Insu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 of Therapy: 10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Date: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Date: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ing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Information Model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apy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tanceAdministration (HL7/RI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ive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cation (subClass of ManufacturedMaterial, HL7/RI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 type of Participation called Consumable (HL7/RI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lin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cation.Name (HL7/RI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Controlled Vocabu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tion.Name =&gt; Controlled Vocabulary RxNorm (also known as Terminology Bind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Data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s and Times =&gt; TS data type in H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d in the definition of data types … taken from the UCUM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ping Methodology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s between Information Model elemen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olicB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TEST, VSTESTCD = SYS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s between controlled vocabul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olicB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Some Snomed Concep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B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Some NCI Thesaurus Concep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nomed Concept”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Some NCI Thesaurus Concep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Data Types and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L7:PQ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RE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Choice: Leverage Existing Implementations an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use the Reasoner to compute eligibility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 DB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use the NLP parser (if available) to parse the textual representation of the clinical trials criteria into structured queries, rules, whate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ical: Eligibility Criteria in O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(hasProblem some DiabetesType 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or hasHistory some Ketacidosi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asTherap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(some Therap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that hasLength all int[&gt;30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and hasTimePeriod all int[&lt; 365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for illustration purposes … need thorough and detailed analysis to get it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Design: Eligibility Criteria u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the_patient.hasProblem = DiabetesType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the_patient.hasHistory = Ketacid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_patient.hasHistory.name =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_patient.hasHistory.length &gt;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_patient.hasHistory.timePeriod &lt; 3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_patient is eligible for the clinical 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ing Desig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mappings always 1-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always possible to get synonym mapp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to these mappings when there are changes in the information mode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se mappings enough to enable a bi-directional flow through between EMR and Clinical trials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monstrate the value of semantic web (SW) specifications in bridging the divide between clinical practice and clinical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ve development of a proof of concept (POC) that demonstrates key value propositions of using SW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buy-in from a wide variety of stakeholders as a prelude to acceptance and adoption of semantic web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buy-in for the us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wide participation and involvement of the key stakeholders in various stages of analysis, design and development of the PO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use existing standards, terminologies, data and information models of existing communities to increase the probability of ado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oup has been functioning in a consensus driven manner where opinions are sought at each step from all the stakeholders and a decision is taken based on the consensus so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realized that a critical success factor was to incorporate the views of various communities at each st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on 1: Use C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 Development was lead by Rachel Rich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 variety of use cases were investigated and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Recru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se Event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ing Patient Through a Clinical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: Focus on Patient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was assumed to be in an EM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-use of existing Information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we re-use EMR data for Clinical Resear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L7/RIM/DCM descriptions may be viewed as a “format” for Clinical Research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clinical data in healthcare delivery systems and applications is represented or transformed into this “forma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ISC/SDTM description may be viewed as a “format” for Clinical Research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clinical data in clinical trials systems and application is represented or transformed into this form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ask questions in one “format” when the data represented in another “format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we implement functionality to map across these “formats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pping module should be flexible to incorporate extensions in the “forma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pping module should be flexible to “plug and play” with multiple “forma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on 2: Information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 variety of Information Models were consid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7/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ISC/SD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ed Clinical Models from Intermountain Health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MR Ontology (Chimez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gibility Criteria Ontology (He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care Delivery Encounter-based Meta Model (Parsa Mirhaj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ne ontology/information model is likely to fit the b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gn as closely as possible to existing information model and terminology standards as po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gaps and inadequacies in addressing the use case at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feedback to standards groups: CDISC, HL7/RIM, BRID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: Use CDISC/SDTM, Detailed Clinical Models, HL7/RIM as “seed” ontologies to begin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ively refine them as gaps and inadequacies are 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nstrate Re-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use of data from the EMR for Clinical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use of existing vocabularies, e.g., NCI Thesaurus, Snomed, MedD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use of pre-existing information models e.g., HL7/RIM/DCM, SD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nd Re-use software components that can be used to enable a wide range of use ca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 Recru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erse Drug Event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ing a Patient through a Clinical 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the POC based on an implementation of these re-usabl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 that implement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 that implement data retrie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 that implement wrappers/trasnfor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 that implement checking for elgibility criteria, adverse events and other clinical events of signific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d to implement POC on a real world data set as opposed to a synthetically created data set. This raised the following 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be an appropriate “seed’ Information Model/Ontology to descri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althcare data based on current 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appropriate terminologies (e.g., Snomed, LOINC, RxNorm) that need to be considered to capture coded information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althcare data based on curren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a Mirhaji provided the data and his feedback was crucial in identifying the appropriate “seed” model/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9:01:57Z</dcterms:created>
  <dc:creator>Partners Information Systems</dc:creator>
  <dc:description/>
  <dc:language>en-US</dc:language>
  <cp:lastModifiedBy>Partners Information Systems</cp:lastModifiedBy>
  <dcterms:modified xsi:type="dcterms:W3CDTF">2008-06-23T18:21:01Z</dcterms:modified>
  <cp:revision>35</cp:revision>
  <dc:subject/>
  <dc:title>COI: Functional Requirements</dc:title>
</cp:coreProperties>
</file>